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7238-D53E-4F0B-9604-20AD7E96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7C9-651A-40A9-BD98-51FEBF5C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5D1-62AF-46BD-BE58-E39FF2D4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676-3AAB-4122-AB30-10C83233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AE98-6B8C-4FE6-9C5C-34B2A6D6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33A2-76AC-46A6-8422-39EDFAB3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1378-C277-48DF-87F4-CAA273FB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53CD-BFF0-4A22-A91D-9373BEE8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812F-340E-46F0-BA7F-53F087E0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FA54-8987-4A22-9B81-D5BDC66D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5615-EB4A-4BC0-8971-9F05CEDF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3C7-2908-4184-BDA3-4558FE52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CC27-6C26-43AF-B6A5-887D9B9C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3345-80D4-4A01-844D-D2159B51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EDAB-AC4E-466F-89B8-A616B3E0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3C2A-AAA5-48F4-80D0-20FFA7E5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D831-C6C5-40DC-AB6B-260A1203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7F1-B732-4B38-81BE-198BF3DA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DF9-AA1C-46C2-AECE-69E72FDB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F5E-CBE1-425F-8B59-1D41F558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69D-949B-4E0D-A3D4-29CD4843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6F8E-2613-421B-BEE9-79F78A0C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2346-49F6-4415-9560-E3772502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EC0-B23A-4162-AABD-26A7D549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A558-78B8-41B5-A23E-02710C588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C7DE-F16C-4DC7-8ABF-C65344A53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ditarod.com/" TargetMode="External"/><Relationship Id="rId2" Type="http://schemas.openxmlformats.org/officeDocument/2006/relationships/hyperlink" Target="http://teacher.scholastic.com/activities/Iditarod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itarod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itarod Researc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6172200" cy="71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Iditar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s the Iditarod ru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Iditarod take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the race run? (History behind the rac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participates in the Iditar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the race set up?  What are the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Diphther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hynow.dumka.us/grfx/Iditarod_map.jpg"/>
          <p:cNvPicPr/>
          <p:nvPr/>
        </p:nvPicPr>
        <p:blipFill>
          <a:blip r:embed="rId1"/>
          <a:stretch/>
        </p:blipFill>
        <p:spPr>
          <a:xfrm>
            <a:off x="838080" y="322200"/>
            <a:ext cx="5334120" cy="77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finders to use for research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049bd"/>
                </a:solidFill>
                <a:uFillTx/>
                <a:latin typeface="Arial"/>
                <a:hlinkClick r:id="rId1"/>
              </a:rPr>
              <a:t>http://www.iditarod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049bd"/>
                </a:solidFill>
                <a:uFillTx/>
                <a:latin typeface="Arial"/>
                <a:hlinkClick r:id="rId2"/>
              </a:rPr>
              <a:t>http://teacher.scholastic.com/activities/Iditaro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adn.com/iditaro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2.grand-forks.k12.nd.us/ms/iditarod/iditarod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is is an older site created by a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iditarodblogs.com/teachers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eacher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dsc.discovery.com/tv/iditarod/iditarod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cludes vide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2:54:28Z</dcterms:created>
  <dc:creator>jukese</dc:creator>
  <dc:description/>
  <dc:language>en-US</dc:language>
  <cp:lastModifiedBy>jukese</cp:lastModifiedBy>
  <dcterms:modified xsi:type="dcterms:W3CDTF">2009-04-06T13:48:26Z</dcterms:modified>
  <cp:revision>3</cp:revision>
  <dc:subject/>
  <dc:title>Iditarod 2009</dc:title>
</cp:coreProperties>
</file>